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79FE-A513-4178-9559-6EDD70860D85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11A0-8BEC-48DA-A7B2-4A6EA7206A47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14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TEMPLATE DESIGN © 2007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1490480" y="5638680"/>
            <a:ext cx="998208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227248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490480" y="5638680"/>
            <a:ext cx="20764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93720" y="5638680"/>
            <a:ext cx="4236732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3360" y="5638680"/>
            <a:ext cx="4219092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525920" y="1143000"/>
            <a:ext cx="347709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International Conference on Innovations in Computing (ICIC 2019)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Title of the paper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uthors Name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filiation/ City/Country/emai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5800" y="56386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93720" y="6205680"/>
            <a:ext cx="9982080" cy="10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ER SIZE FOR DISPLAY SHOULD BE A2 SIZE (A2 594 mm x 420 mm     OR     23.4 in x 16.5 in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: Times New Roma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 Size: 30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Fon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: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 Box 388"/>
          <p:cNvSpPr/>
          <p:nvPr/>
        </p:nvSpPr>
        <p:spPr>
          <a:xfrm>
            <a:off x="693720" y="177292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405"/>
          <p:cNvSpPr/>
          <p:nvPr/>
        </p:nvSpPr>
        <p:spPr>
          <a:xfrm>
            <a:off x="11490480" y="56260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406"/>
          <p:cNvSpPr/>
          <p:nvPr/>
        </p:nvSpPr>
        <p:spPr>
          <a:xfrm>
            <a:off x="11490480" y="6218280"/>
            <a:ext cx="9982080" cy="77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417"/>
          <p:cNvSpPr/>
          <p:nvPr/>
        </p:nvSpPr>
        <p:spPr>
          <a:xfrm>
            <a:off x="11539440" y="1415736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posed Method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18"/>
          <p:cNvSpPr/>
          <p:nvPr/>
        </p:nvSpPr>
        <p:spPr>
          <a:xfrm>
            <a:off x="11484000" y="14776560"/>
            <a:ext cx="9982080" cy="169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24"/>
          <p:cNvSpPr/>
          <p:nvPr/>
        </p:nvSpPr>
        <p:spPr>
          <a:xfrm>
            <a:off x="22348800" y="562608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425"/>
          <p:cNvSpPr/>
          <p:nvPr/>
        </p:nvSpPr>
        <p:spPr>
          <a:xfrm>
            <a:off x="22272480" y="6218280"/>
            <a:ext cx="9982440" cy="82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" name="Group 430"/>
          <p:cNvGrpSpPr/>
          <p:nvPr/>
        </p:nvGrpSpPr>
        <p:grpSpPr>
          <a:xfrm>
            <a:off x="23709240" y="19900800"/>
            <a:ext cx="7263720" cy="2421360"/>
            <a:chOff x="23709240" y="19900800"/>
            <a:chExt cx="7263720" cy="2421360"/>
          </a:xfrm>
        </p:grpSpPr>
        <p:sp>
          <p:nvSpPr>
            <p:cNvPr id="152" name="Text Box 431"/>
            <p:cNvSpPr/>
            <p:nvPr/>
          </p:nvSpPr>
          <p:spPr>
            <a:xfrm>
              <a:off x="23721120" y="21925440"/>
              <a:ext cx="7251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gure 1: Original imag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53" name="Group 432"/>
            <p:cNvGrpSpPr/>
            <p:nvPr/>
          </p:nvGrpSpPr>
          <p:grpSpPr>
            <a:xfrm>
              <a:off x="23709240" y="19900800"/>
              <a:ext cx="7263720" cy="1970640"/>
              <a:chOff x="23709240" y="19900800"/>
              <a:chExt cx="7263720" cy="1970640"/>
            </a:xfrm>
          </p:grpSpPr>
          <p:pic>
            <p:nvPicPr>
              <p:cNvPr id="154" name="Picture 433" descr="x-original"/>
              <p:cNvPicPr/>
              <p:nvPr/>
            </p:nvPicPr>
            <p:blipFill>
              <a:blip r:embed="rId1"/>
              <a:stretch/>
            </p:blipFill>
            <p:spPr>
              <a:xfrm>
                <a:off x="23709240" y="19900800"/>
                <a:ext cx="177732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5" name="Picture 434" descr="x-200"/>
              <p:cNvPicPr/>
              <p:nvPr/>
            </p:nvPicPr>
            <p:blipFill>
              <a:blip r:embed="rId2"/>
              <a:stretch/>
            </p:blipFill>
            <p:spPr>
              <a:xfrm>
                <a:off x="26452440" y="19900800"/>
                <a:ext cx="177588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6" name="Picture 435" descr="x-400"/>
              <p:cNvPicPr/>
              <p:nvPr/>
            </p:nvPicPr>
            <p:blipFill>
              <a:blip r:embed="rId3"/>
              <a:stretch/>
            </p:blipFill>
            <p:spPr>
              <a:xfrm>
                <a:off x="29195640" y="19900800"/>
                <a:ext cx="1777320" cy="197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57" name="Text Box 461"/>
          <p:cNvSpPr/>
          <p:nvPr/>
        </p:nvSpPr>
        <p:spPr>
          <a:xfrm>
            <a:off x="22294800" y="22777560"/>
            <a:ext cx="998208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Text Box 462"/>
          <p:cNvSpPr/>
          <p:nvPr/>
        </p:nvSpPr>
        <p:spPr>
          <a:xfrm>
            <a:off x="22197960" y="23652000"/>
            <a:ext cx="9982080" cy="82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Text Box 479"/>
          <p:cNvSpPr/>
          <p:nvPr/>
        </p:nvSpPr>
        <p:spPr>
          <a:xfrm>
            <a:off x="33078600" y="563868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 Box 480"/>
          <p:cNvSpPr/>
          <p:nvPr/>
        </p:nvSpPr>
        <p:spPr>
          <a:xfrm>
            <a:off x="33078600" y="19900800"/>
            <a:ext cx="9982440" cy="7012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tact Inform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3078600" y="20628000"/>
          <a:ext cx="9982440" cy="4879800"/>
        </p:xfrm>
        <a:graphic>
          <a:graphicData uri="http://schemas.openxmlformats.org/drawingml/2006/table">
            <a:tbl>
              <a:tblPr/>
              <a:tblGrid>
                <a:gridCol w="5040360"/>
                <a:gridCol w="4942080"/>
              </a:tblGrid>
              <a:tr h="1612800">
                <a:tc gridSpan="2"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rese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7000">
                <a:tc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0" rIns="274320" tIns="274320" bIns="27432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ct No: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mail ID: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4572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89"/>
          <p:cNvSpPr/>
          <p:nvPr/>
        </p:nvSpPr>
        <p:spPr>
          <a:xfrm>
            <a:off x="685800" y="18214920"/>
            <a:ext cx="9910800" cy="13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3709240" y="15898680"/>
          <a:ext cx="7407360" cy="2843280"/>
        </p:xfrm>
        <a:graphic>
          <a:graphicData uri="http://schemas.openxmlformats.org/drawingml/2006/table">
            <a:tbl>
              <a:tblPr/>
              <a:tblGrid>
                <a:gridCol w="1481040"/>
                <a:gridCol w="1481400"/>
                <a:gridCol w="1482480"/>
                <a:gridCol w="1481400"/>
                <a:gridCol w="1481040"/>
              </a:tblGrid>
              <a:tr h="71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 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431"/>
          <p:cNvSpPr/>
          <p:nvPr/>
        </p:nvSpPr>
        <p:spPr>
          <a:xfrm>
            <a:off x="23755320" y="19040400"/>
            <a:ext cx="725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ble 1: Original t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Text Box 462"/>
          <p:cNvSpPr/>
          <p:nvPr/>
        </p:nvSpPr>
        <p:spPr>
          <a:xfrm>
            <a:off x="33118560" y="6488280"/>
            <a:ext cx="9982080" cy="123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text her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4"/>
          <a:stretch/>
        </p:blipFill>
        <p:spPr>
          <a:xfrm>
            <a:off x="685800" y="176040"/>
            <a:ext cx="2874960" cy="450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ICIC Logo.png"/>
          <p:cNvPicPr/>
          <p:nvPr/>
        </p:nvPicPr>
        <p:blipFill>
          <a:blip r:embed="rId5"/>
          <a:stretch/>
        </p:blipFill>
        <p:spPr>
          <a:xfrm>
            <a:off x="37946160" y="1143000"/>
            <a:ext cx="5114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Gupta</cp:lastModifiedBy>
  <dcterms:modified xsi:type="dcterms:W3CDTF">2019-06-02T07:04:24Z</dcterms:modified>
  <cp:revision>183</cp:revision>
  <dc:subject>Free PowerPoint poster templates</dc:subject>
  <dc:title>48x36 Poster Template</dc:title>
</cp:coreProperties>
</file>